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3CCDD-A109-46F3-9D22-B422DA5B2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2DD28-8996-4DAD-B0EC-91295E837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F6872-DBD8-4432-8E6A-EA43542CD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41C75-70C8-4D5F-B6A6-656D9010D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A1F5D-7B83-4999-BEBC-AE3A94786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8DD4B-C810-4594-8088-EE68CD8D8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267AB-E3AA-48CB-B1D2-A8518A761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BF8F8-F989-4BFA-8772-1F6304925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FF7E6-9871-4BC0-81B6-BF25A779F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0B471-A9AC-48CE-921A-8EDEBFB32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42F3F-D702-402E-B43A-50B568035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E5F8F-9C2A-4D5B-BD9A-062CD7AAB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C7452-36F7-40DB-86D3-29AC9BA2F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65C40-35A6-448C-BC59-8B66D5377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4B6D0-D89C-4A5D-A7DC-20B5E1338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D95CA-D835-4083-92E4-49C9B276D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5C694-11C9-4182-898D-9D7D1EE7B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A908F-7131-4E6E-ADFB-0834F2D8F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9FE1A-D790-4207-93F6-05577BF9F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AFC26-0700-4258-AD56-41E1E6241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F1677-C820-46C4-BFEF-DBC0AA772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D0397-E491-41A0-A7CB-468403AD5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FA566-816D-42D9-9143-11A548A78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17AC1-8B6D-49F4-AD3C-BF4BAC852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072C4-7844-4A20-94C0-2BCD0B01D6A4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346120"/>
            <a:ext cx="859284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3439800"/>
            <a:ext cx="76770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542916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7ABE3-2C1B-4E81-B22F-7A467018A2D3}" type="slidenum"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339560"/>
            <a:ext cx="85932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638"/>
                </a:solidFill>
                <a:latin typeface="굴림"/>
                <a:ea typeface="굴림"/>
              </a:rPr>
              <a:t>3</a:t>
            </a: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장 공동 협력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-360" y="2922120"/>
            <a:ext cx="76770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공동 협력의 개념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 협력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Collaboration)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이란 교사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아동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가족이 문제 해결을 위하여 자신들이 지닌 자원과 강점을 공유하는 역동적인 과정이다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.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협력과 상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/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자문과는 차이가 있음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상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/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자문이란 한 사람의 전문가가 문제해결을 도와주는 과정이므로 동등한 입장이 아니지만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협력은 참여자 모두가 동등한 자격으로 의무를 공유하고 의사결정을 함께 내리는 것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.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 협력은 결혼의 조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신랑과 신부의 관계 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부모와 교사의 공동 협력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부모와 교사의 협력 증진 방안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학교활동에 부모참여를 촉진하는 전략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부모와 교사의 회의 전략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특수교사와 일반교사의 공동 협력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일반교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특수교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의사소통 전략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공동협력의 예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실관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사 인터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학급 비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차이점 해결방안 모색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638"/>
                </a:solidFill>
                <a:latin typeface="Arial"/>
                <a:ea typeface="굴림"/>
              </a:rPr>
              <a:t>결론 및 논의</a:t>
            </a:r>
            <a:endParaRPr b="0" lang="en-US" sz="40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공동협력의 필요성 인식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공동 협력이 되지 않는 이유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해결 방안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c638"/>
                </a:solidFill>
                <a:latin typeface="Arial"/>
                <a:ea typeface="굴림"/>
              </a:rPr>
              <a:t>질문</a:t>
            </a:r>
            <a:r>
              <a:rPr b="0" lang="en-US" sz="6000" spc="-1" strike="noStrike">
                <a:solidFill>
                  <a:srgbClr val="ffc638"/>
                </a:solidFill>
                <a:latin typeface="Arial"/>
                <a:ea typeface="굴림"/>
              </a:rPr>
              <a:t>??</a:t>
            </a:r>
            <a:endParaRPr b="0" lang="en-US" sz="6000" spc="-1" strike="noStrike">
              <a:solidFill>
                <a:srgbClr val="ffc638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33480" y="1771560"/>
            <a:ext cx="54738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4T21:04:06Z</dcterms:created>
  <dc:creator/>
  <dc:description/>
  <dc:language>en-US</dc:language>
  <cp:lastModifiedBy>f</cp:lastModifiedBy>
  <dcterms:modified xsi:type="dcterms:W3CDTF">2007-03-28T05:38:25Z</dcterms:modified>
  <cp:revision>14</cp:revision>
  <dc:subject/>
  <dc:title>농아동의 수학교과교육</dc:title>
</cp:coreProperties>
</file>